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9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4FDB-EA98-4B6C-B57A-BB717E814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D069-F4B0-452E-900B-0D25B48BD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2DD6-89EF-4369-A106-7C231E4C1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5EEC-43F3-450E-87AF-8CA06F0EA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1D88-947C-4017-A1EF-B2CDF87D5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BF27-676D-4B83-9BAF-F863D0B1A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7455-E409-4D05-84B8-10C47C9FE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A4F4-12B7-45FA-9C9B-1E28703C4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3A78-E597-4D08-8606-2B42CE2A5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B187-B1EA-4448-B341-B9265F780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CBA5-D225-4E62-9C71-531B092F5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44C3-32A2-44F4-87C1-26EC1FE0A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5AE7-CBCC-45CE-B143-C37D7B66D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36D6-8256-4B3A-B719-6E272DD65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EC53-5F9A-4E78-9819-D97A49AF8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D5D0-B80F-49EC-98B8-672551AF6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1689-5CCC-44AE-A545-2FFE1AC29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A28C-411A-44E0-A1E5-68C9B3857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57BE-3CD1-46E6-B59F-F6D012E7C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2B51-1A0F-40B5-A579-0A8A677D7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CAE0-16E0-473A-82E0-6B5FDF446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84F5-2326-4CBE-ACC7-3D3D6779D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3194-98A2-40DE-952F-1253C335E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FFC3-0B05-4664-AB06-468C704F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9E6-CF0E-4B3E-9A8A-E1259397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E07-F8AD-448A-AB96-AB68C33B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8C4-9308-4D91-B24A-C3364046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16FF-D275-4787-BB92-3DD30089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CC80-46ED-4CB0-9D1F-2968537F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179C-E8FB-4DBD-B63D-D957F9A3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650-6956-4ABC-88B0-1D125697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A85-0B45-4813-B4BE-23D054AF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1346-06B5-4B1D-ACEC-497D15B1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ADD-7B9C-4219-ADB4-44DD4162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45D-7826-434D-979D-CA8ECA1E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C2F3-B28C-47F8-9B53-79F277AC7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logs.timesunion.com/capitol/wp-content/uploads/2008/08/medicaid-budget-cuts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beta.laschoolboard.org/files/images/LAUSDLogo.gif&amp;imgrefurl=http://beta.laschoolboard.org/lausdlive&amp;usg=__O2kB7AT0QnY5Tx_lbS9qZZn66a4=&amp;h=838&amp;w=836&amp;sz=47&amp;hl=en&amp;start=1&amp;tbnid=CTAa645D6KR0PM:&amp;tbnh=144&amp;tbnw=144&amp;prev=/images?q=lausd&amp;gbv=2&amp;hl=en&amp;safe=active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amapm.com/html-images/LAUSD1.jpg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www.lastudentscount.org/images/LAUSDmap.jpg" TargetMode="External"/><Relationship Id="rId8" Type="http://schemas.openxmlformats.org/officeDocument/2006/relationships/image" Target="../media/image24.jpeg"/><Relationship Id="rId9" Type="http://schemas.openxmlformats.org/officeDocument/2006/relationships/hyperlink" Target="http://www.wall.org/~larry/onion/prohibit.gif" TargetMode="External"/><Relationship Id="rId10" Type="http://schemas.openxmlformats.org/officeDocument/2006/relationships/image" Target="../media/image25.jpeg"/><Relationship Id="rId11" Type="http://schemas.openxmlformats.org/officeDocument/2006/relationships/hyperlink" Target="http://www.carnegie.org/reporter/09/images/literacy1.jpg" TargetMode="External"/><Relationship Id="rId12" Type="http://schemas.openxmlformats.org/officeDocument/2006/relationships/image" Target="../media/image26.jpeg"/><Relationship Id="rId13" Type="http://schemas.openxmlformats.org/officeDocument/2006/relationships/hyperlink" Target="http://images.google.com/imgres?imgurl=http://kramtark.files.wordpress.com/2007/09/cimg3628.jpg&amp;imgrefurl=http://kramtark.wordpress.com/2007/09/06/psych-101/&amp;usg=__bKIKUtuVFo2azB54LWCvPu6Zgek=&amp;h=768&amp;w=1024&amp;sz=286&amp;hl=en&amp;start=2&amp;tbnid=2o1SdTrrXontmM:&amp;tbnh=113&amp;tbnw=150&amp;prev=/images?q=large+class+size&amp;gbv=2&amp;hl=en&amp;safe=active" TargetMode="External"/><Relationship Id="rId14" Type="http://schemas.openxmlformats.org/officeDocument/2006/relationships/image" Target="../media/image27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e-rockford.com/applesauce/files/2009/01/layoff-notice.jpg&amp;imgrefurl=http://blogs.e-rockford.com/applesauce/2009/01/&amp;usg=__BpI6-iBG4Mp3IBcOVyIMDUoOatE=&amp;h=240&amp;w=240&amp;sz=22&amp;hl=en&amp;start=2&amp;tbnid=LeXQQFB0BUCpkM:&amp;tbnh=110&amp;tbnw=110&amp;prev=/images?q=layoff+notice&amp;gbv=2&amp;hl=en&amp;safe=active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e-rockford.com/applesauce/files/2009/01/layoff-notice.jpg&amp;imgrefurl=http://blogs.e-rockford.com/applesauce/2009/01/&amp;usg=__BpI6-iBG4Mp3IBcOVyIMDUoOatE=&amp;h=240&amp;w=240&amp;sz=22&amp;hl=en&amp;start=2&amp;tbnid=LeXQQFB0BUCpkM:&amp;tbnh=110&amp;tbnw=110&amp;prev=/images?q=layoff+notice&amp;gbv=2&amp;hl=en&amp;safe=active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tuhsc.edu/centers/aging/images/caringWEB.jpg&amp;imgrefurl=http://www.ttuhsc.edu/centers/aging/caregivers.aspx&amp;usg=__vRMpHozt16YDbuN6BFpsKT9M2bc=&amp;h=360&amp;w=540&amp;sz=39&amp;hl=en&amp;start=5&amp;tbnid=E3CXCM92sQD7DM:&amp;tbnh=88&amp;tbnw=132&amp;prev=/images?q=caring&amp;gbv=2&amp;hl=en&amp;safe=active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sy2.ucsd.edu/~kang/child%2520pictures/children-jump.jpg&amp;imgrefurl=http://psy2.ucsd.edu/~kang/Welcome%2520page.htm&amp;usg=__GJAfw9hosPYebSbd_tmE9IXN2Co=&amp;h=305&amp;w=400&amp;sz=33&amp;hl=en&amp;start=2&amp;tbnid=nsqhJiJv_L7gPM:&amp;tbnh=95&amp;tbnw=124&amp;prev=/images?q=children&amp;gbv=2&amp;hl=en&amp;safe=active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sy2.ucsd.edu/~kang/child%2520pictures/children-jump.jpg&amp;imgrefurl=http://psy2.ucsd.edu/~kang/Welcome%2520page.htm&amp;usg=__GJAfw9hosPYebSbd_tmE9IXN2Co=&amp;h=305&amp;w=400&amp;sz=33&amp;hl=en&amp;start=2&amp;tbnid=nsqhJiJv_L7gPM:&amp;tbnh=95&amp;tbnw=124&amp;prev=/images?q=children&amp;gbv=2&amp;hl=en&amp;safe=active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om/imgres?imgurl=http://www.santiagotimes.cl/santiagotimes/images/stories/easygallery/45/1195588650_high%2520school%2520students.jpg&amp;imgrefurl=http://www.santiagotimes.cl/santiagotimes/index.php/component/option,com_easygallery/Itemid,46/act,categories/cid,45/&amp;usg=__Lged65vaDR2pSpHatNoAtG_QKZw=&amp;h=375&amp;w=500&amp;sz=107&amp;hl=en&amp;start=4&amp;tbnid=36BDb_Jisw7coM:&amp;tbnh=98&amp;tbnw=130&amp;prev=/images?q=high+school+students&amp;gbv=2&amp;hl=en&amp;safe=active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uardianpoolfence.com/Photos/removable-mesh-pool-fences.jpg&amp;imgrefurl=http://www.guardianpoolfence.com/removable-mesh-pool-fences.html&amp;usg=__P-5jhysNPDQVZYIi1tT-oC6rqy0=&amp;h=265&amp;w=400&amp;sz=35&amp;hl=en&amp;start=27&amp;tbnid=ADb4qyZWVAWLzM:&amp;tbnh=82&amp;tbnw=124&amp;prev=/images?q=fence+by+children&amp;start=20&amp;gbv=2&amp;ndsp=20&amp;hl=en&amp;safe=active&amp;sa=N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uildingsurveyingsolutions.co.uk/data/rics/webimag/boundary_disputes.jpg&amp;imgrefurl=http://www.buildingsurveyingsolutions.co.uk/english/05-bound.htm&amp;usg=__Jx3Dj-zMdcMJMerGGnrGCLqJr3U=&amp;h=320&amp;w=430&amp;sz=7&amp;hl=en&amp;start=5&amp;tbnid=3cmkEHbQz3nBcM:&amp;tbnh=94&amp;tbnw=126&amp;prev=/images?q=boundary&amp;gbv=2&amp;hl=en&amp;safe=active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tonewall.nist.gov/CONTENT/wall199c.jpg&amp;imgrefurl=http://stonewall.nist.gov/CONTENT/Location.htm&amp;usg=__-nf1AKPL6nbuQy2Oq-9v-8_MZdA=&amp;h=946&amp;w=766&amp;sz=184&amp;hl=en&amp;start=5&amp;tbnid=efo8HJYwwZkTTM:&amp;tbnh=148&amp;tbnw=120&amp;prev=/images?q=wall&amp;gbv=2&amp;hl=en&amp;safe=active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ro.corbis.com/images/42-15207423.jpg?size=67&amp;uid=%257BD2B5CB1E-0C57-4CE3-8C1B-BA176D7BFD64%257D&amp;imgrefurl=http://pro.corbis.com/search/Enlargement.aspx?CID=isg&amp;mediauid=%257BD2B5CB1E-0C57-4CE3-8C1B-BA176D7BFD64%257D&amp;usg=__oyySA84uxm2Eg7Eh9R7EEUMTp2o=&amp;h=426&amp;w=640&amp;sz=133&amp;hl=en&amp;start=33&amp;tbnid=8Zj88HUJyXawBM:&amp;tbnh=91&amp;tbnw=137&amp;prev=/images?q=chain+link+fence+with+holes&amp;start=20&amp;gbv=2&amp;ndsp=20&amp;hl=en&amp;safe=active&amp;sa=N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bp0.blogger.com/_AS1aErDzEdI/R0_e3bJ2WrI/AAAAAAAAA14/q8PxtB-AUo4/s1600-R/Bangladesh+2007+118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385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MCj04396130000[1]"/>
          <p:cNvPicPr/>
          <p:nvPr/>
        </p:nvPicPr>
        <p:blipFill>
          <a:blip r:embed="rId1">
            <a:lum bright="56000"/>
          </a:blip>
          <a:stretch/>
        </p:blipFill>
        <p:spPr>
          <a:xfrm>
            <a:off x="1219320" y="0"/>
            <a:ext cx="6705360" cy="708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MPj04014790000[1]"/>
          <p:cNvPicPr/>
          <p:nvPr/>
        </p:nvPicPr>
        <p:blipFill>
          <a:blip r:embed="rId2"/>
          <a:stretch/>
        </p:blipFill>
        <p:spPr>
          <a:xfrm>
            <a:off x="2514600" y="1295280"/>
            <a:ext cx="4038480" cy="2691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066680" y="4226040"/>
            <a:ext cx="73915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Japanese Gothic"/>
              </a:rPr>
              <a:t>Local District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828800" y="55227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Japanese Gothic"/>
              </a:rPr>
              <a:t>March 11,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52280" y="30492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Japanese Gothic"/>
              </a:rPr>
              <a:t>21st Century Learn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leadership"/>
          <p:cNvPicPr/>
          <p:nvPr/>
        </p:nvPicPr>
        <p:blipFill>
          <a:blip r:embed="rId1"/>
          <a:stretch/>
        </p:blipFill>
        <p:spPr>
          <a:xfrm>
            <a:off x="1752480" y="3657600"/>
            <a:ext cx="3238560" cy="285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anonymous-leadership-5000373"/>
          <p:cNvPicPr/>
          <p:nvPr/>
        </p:nvPicPr>
        <p:blipFill>
          <a:blip r:embed="rId2"/>
          <a:stretch/>
        </p:blipFill>
        <p:spPr>
          <a:xfrm>
            <a:off x="3809880" y="304920"/>
            <a:ext cx="4551480" cy="3276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Leadership-Pyramid"/>
          <p:cNvPicPr/>
          <p:nvPr/>
        </p:nvPicPr>
        <p:blipFill>
          <a:blip r:embed="rId3"/>
          <a:stretch/>
        </p:blipFill>
        <p:spPr>
          <a:xfrm>
            <a:off x="5638680" y="3352680"/>
            <a:ext cx="2619360" cy="3364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http://www.jewsonfirst.org/images/obama8.jpg"/>
          <p:cNvPicPr/>
          <p:nvPr/>
        </p:nvPicPr>
        <p:blipFill>
          <a:blip r:embed="rId4"/>
          <a:stretch/>
        </p:blipFill>
        <p:spPr>
          <a:xfrm>
            <a:off x="457200" y="228600"/>
            <a:ext cx="2865600" cy="3565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9"/>
          <p:cNvSpPr/>
          <p:nvPr/>
        </p:nvSpPr>
        <p:spPr>
          <a:xfrm>
            <a:off x="838080" y="2971800"/>
            <a:ext cx="28195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es, we ca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4648320" y="2971800"/>
            <a:ext cx="32004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ossible Budget Cut Impa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981080"/>
            <a:ext cx="3352680" cy="217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LAUSD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286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62720" y="1295280"/>
            <a:ext cx="2438280" cy="297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See full 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2120" y="3352680"/>
            <a:ext cx="2400120" cy="320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See full size ima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905120" y="2666880"/>
            <a:ext cx="4038480" cy="2824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See full size ima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038480" y="228600"/>
            <a:ext cx="4572000" cy="2570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img3628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419720" y="3105000"/>
            <a:ext cx="4403520" cy="3303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4952880" y="4191120"/>
            <a:ext cx="2362320" cy="1191240"/>
          </a:xfrm>
          <a:prstGeom prst="rect">
            <a:avLst/>
          </a:prstGeom>
          <a:solidFill>
            <a:srgbClr val="f5d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20: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762120" y="2971800"/>
            <a:ext cx="2590560" cy="13129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sistant Princi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429000" y="1447920"/>
            <a:ext cx="472428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ed sta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layoff-noti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662040"/>
            <a:ext cx="6400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layoff-noti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662040"/>
            <a:ext cx="6400800" cy="59436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4"/>
          <p:cNvSpPr txBox="1"/>
          <p:nvPr/>
        </p:nvSpPr>
        <p:spPr>
          <a:xfrm>
            <a:off x="1905120" y="1600200"/>
            <a:ext cx="54864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March 15</a:t>
            </a:r>
            <a:endParaRPr b="1" i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caringWE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990720"/>
            <a:ext cx="7239240" cy="53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children-jum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685800"/>
            <a:ext cx="41148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children-jum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685800"/>
            <a:ext cx="4114800" cy="315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1195588650_high%2520school%2520student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2389320"/>
            <a:ext cx="518148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removable-mesh-pool-fenc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644480"/>
            <a:ext cx="65530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boundary_dispu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474920"/>
            <a:ext cx="609588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The iStude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34286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DSCN0875"/>
          <p:cNvPicPr/>
          <p:nvPr/>
        </p:nvPicPr>
        <p:blipFill>
          <a:blip r:embed="rId1"/>
          <a:stretch/>
        </p:blipFill>
        <p:spPr>
          <a:xfrm>
            <a:off x="6324480" y="3200400"/>
            <a:ext cx="2608560" cy="26668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074680" cy="2766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59" name="Picture 7" descr="j0414104"/>
          <p:cNvPicPr/>
          <p:nvPr/>
        </p:nvPicPr>
        <p:blipFill>
          <a:blip r:embed="rId4"/>
          <a:stretch/>
        </p:blipFill>
        <p:spPr>
          <a:xfrm>
            <a:off x="2209680" y="2743200"/>
            <a:ext cx="4038840" cy="3171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990720" y="5335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lege Prepared and Career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http://www.tradesandtech.ethoscmg.com/Trades_and_Technology_Toolbox_paper_mill_Feb_2006.jpg"/>
          <p:cNvPicPr/>
          <p:nvPr/>
        </p:nvPicPr>
        <p:blipFill>
          <a:blip r:embed="rId5"/>
          <a:stretch/>
        </p:blipFill>
        <p:spPr>
          <a:xfrm>
            <a:off x="5486400" y="1847880"/>
            <a:ext cx="3162240" cy="2373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www.okanagan.bc.ca/Assets/Departments+(Education)/Trades+$!26+Apprenticeship/Welding/Images/Welding+TradesACata+Image+07439g+18.jpg"/>
          <p:cNvPicPr/>
          <p:nvPr/>
        </p:nvPicPr>
        <p:blipFill>
          <a:blip r:embed="rId6"/>
          <a:stretch/>
        </p:blipFill>
        <p:spPr>
          <a:xfrm>
            <a:off x="609480" y="4038480"/>
            <a:ext cx="174636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http://www.acmestores.com/images/chef_marc2.jpg"/>
          <p:cNvPicPr/>
          <p:nvPr/>
        </p:nvPicPr>
        <p:blipFill>
          <a:blip r:embed="rId7"/>
          <a:stretch/>
        </p:blipFill>
        <p:spPr>
          <a:xfrm>
            <a:off x="6553080" y="3962520"/>
            <a:ext cx="221940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8"/>
          <a:stretch/>
        </p:blipFill>
        <p:spPr>
          <a:xfrm>
            <a:off x="2590920" y="190512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"/>
          <p:cNvPicPr/>
          <p:nvPr/>
        </p:nvPicPr>
        <p:blipFill>
          <a:blip r:embed="rId9"/>
          <a:stretch/>
        </p:blipFill>
        <p:spPr>
          <a:xfrm>
            <a:off x="685800" y="160020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wall199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9144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42-152074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143000"/>
            <a:ext cx="69343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533520" y="2286000"/>
            <a:ext cx="8001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udget Process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undred%2520dollar%2520bill"/>
          <p:cNvPicPr/>
          <p:nvPr/>
        </p:nvPicPr>
        <p:blipFill>
          <a:blip r:embed="rId1"/>
          <a:stretch/>
        </p:blipFill>
        <p:spPr>
          <a:xfrm>
            <a:off x="838080" y="1828800"/>
            <a:ext cx="7543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Hundred%2520dollar%2520bill"/>
          <p:cNvPicPr/>
          <p:nvPr/>
        </p:nvPicPr>
        <p:blipFill>
          <a:blip r:embed="rId1"/>
          <a:stretch/>
        </p:blipFill>
        <p:spPr>
          <a:xfrm>
            <a:off x="838080" y="1981080"/>
            <a:ext cx="7543800" cy="29718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533520" y="1295280"/>
            <a:ext cx="80769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More categorical money</a:t>
            </a:r>
            <a:endParaRPr b="0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rive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rive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rive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 interest of the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96080" cy="102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verarching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udents will receive a guaranteed, viable curriculum so that by June, 2008, the following percentage of student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luding subgroups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, SEL and Sp.Ed. Student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at proficient or advanced as evidenced by these NCLB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.5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3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dle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.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a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.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6197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pl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rive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 interest of the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utside the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The iStude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34286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DSCN0875"/>
          <p:cNvPicPr/>
          <p:nvPr/>
        </p:nvPicPr>
        <p:blipFill>
          <a:blip r:embed="rId1"/>
          <a:stretch/>
        </p:blipFill>
        <p:spPr>
          <a:xfrm>
            <a:off x="6324480" y="3200400"/>
            <a:ext cx="2608560" cy="26668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074680" cy="2766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42" name="Picture 7" descr="j0414104"/>
          <p:cNvPicPr/>
          <p:nvPr/>
        </p:nvPicPr>
        <p:blipFill>
          <a:blip r:embed="rId4"/>
          <a:stretch/>
        </p:blipFill>
        <p:spPr>
          <a:xfrm>
            <a:off x="2209680" y="2743200"/>
            <a:ext cx="4038840" cy="31719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990720" y="5335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lege Prepared and Career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http://www.tradesandtech.ethoscmg.com/Trades_and_Technology_Toolbox_paper_mill_Feb_2006.jpg"/>
          <p:cNvPicPr/>
          <p:nvPr/>
        </p:nvPicPr>
        <p:blipFill>
          <a:blip r:embed="rId5"/>
          <a:stretch/>
        </p:blipFill>
        <p:spPr>
          <a:xfrm>
            <a:off x="5486400" y="1847880"/>
            <a:ext cx="3162240" cy="23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http://www.okanagan.bc.ca/Assets/Departments+(Education)/Trades+$!26+Apprenticeship/Welding/Images/Welding+TradesACata+Image+07439g+18.jpg"/>
          <p:cNvPicPr/>
          <p:nvPr/>
        </p:nvPicPr>
        <p:blipFill>
          <a:blip r:embed="rId6"/>
          <a:stretch/>
        </p:blipFill>
        <p:spPr>
          <a:xfrm>
            <a:off x="609480" y="4038480"/>
            <a:ext cx="1746360" cy="261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http://www.acmestores.com/images/chef_marc2.jpg"/>
          <p:cNvPicPr/>
          <p:nvPr/>
        </p:nvPicPr>
        <p:blipFill>
          <a:blip r:embed="rId7"/>
          <a:stretch/>
        </p:blipFill>
        <p:spPr>
          <a:xfrm>
            <a:off x="6553080" y="3962520"/>
            <a:ext cx="2219400" cy="2895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8"/>
          <a:stretch/>
        </p:blipFill>
        <p:spPr>
          <a:xfrm>
            <a:off x="2590920" y="190512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/>
          <p:cNvPicPr/>
          <p:nvPr/>
        </p:nvPicPr>
        <p:blipFill>
          <a:blip r:embed="rId9"/>
          <a:stretch/>
        </p:blipFill>
        <p:spPr>
          <a:xfrm>
            <a:off x="685800" y="160020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96080" cy="102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verarching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udents will receive a guaranteed, viable curriculum so that by June, 2008, the following percentage of student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luding subgroups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, SEL and Sp.Ed. Student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at proficient or advanced as evidenced by these NCLB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.5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3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dle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.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a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.0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219320" y="1600200"/>
            <a:ext cx="6933960" cy="30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eet AYP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arching Goal</a:t>
            </a:r>
            <a:br>
              <a:rPr sz="29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udents need to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37720" y="152388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life long lear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assi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ready to take ri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problem-solve and think crit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look at things differ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work independently and with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e and want to give back to the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integrity and self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nnis Littke-The Real Goals of Educ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arching Goal</a:t>
            </a:r>
            <a:br>
              <a:rPr sz="29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udents need to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52388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life long lear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assi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ready to take ri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problem-solve and think crit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look at things differ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work independently and with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e and want to give back to the comm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integrity and self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nnis Littke-The Real Goals of Educ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457200" y="1447920"/>
            <a:ext cx="84582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1st Century Learners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[iStock_000004404460XSmall_Target.jpg]"/>
          <p:cNvPicPr/>
          <p:nvPr/>
        </p:nvPicPr>
        <p:blipFill>
          <a:blip r:embed="rId1"/>
          <a:stretch/>
        </p:blipFill>
        <p:spPr>
          <a:xfrm>
            <a:off x="380880" y="609480"/>
            <a:ext cx="8455320" cy="5610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1066680" y="4191120"/>
            <a:ext cx="67820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uaranteed and viable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31plc-515"/>
          <p:cNvPicPr/>
          <p:nvPr/>
        </p:nvPicPr>
        <p:blipFill>
          <a:blip r:embed="rId1"/>
          <a:stretch/>
        </p:blipFill>
        <p:spPr>
          <a:xfrm>
            <a:off x="152280" y="380880"/>
            <a:ext cx="8759880" cy="583416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838080" y="4343400"/>
            <a:ext cx="71629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fessional Learning Comm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3" descr="http://clerccenter.gallaudet.edu/AcademicTeams/team6-7-8/images/discussing.JPG"/>
          <p:cNvPicPr/>
          <p:nvPr/>
        </p:nvPicPr>
        <p:blipFill>
          <a:blip r:embed="rId1"/>
          <a:stretch/>
        </p:blipFill>
        <p:spPr>
          <a:xfrm>
            <a:off x="1828800" y="838080"/>
            <a:ext cx="434340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www.nclr.org/Image/oral/two%20girls%20talking.jpg"/>
          <p:cNvPicPr/>
          <p:nvPr/>
        </p:nvPicPr>
        <p:blipFill>
          <a:blip r:embed="rId2"/>
          <a:stretch/>
        </p:blipFill>
        <p:spPr>
          <a:xfrm>
            <a:off x="4495680" y="2514600"/>
            <a:ext cx="4191120" cy="2743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http://tbn0.google.com/images?q=tbn:2VvtIPTki1VKyM:http://bp0.blogger.com/_AS1aErDzEdI/R0_e3bJ2WrI/AAAAAAAAA14/q8PxtB-AUo4/s1600-R/Bangladesh%2B2007%2B11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358128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5486400" y="1981080"/>
            <a:ext cx="2438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rsu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4572000" y="4038480"/>
            <a:ext cx="1676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rgu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4572000" y="5334120"/>
            <a:ext cx="3429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erencing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09480" y="2209680"/>
            <a:ext cx="22100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scu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2743200" y="3429000"/>
            <a:ext cx="1676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2438280" y="304920"/>
            <a:ext cx="46483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uthentic Lite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5:46:11Z</dcterms:created>
  <dc:creator>martin.galindo</dc:creator>
  <dc:description/>
  <dc:language>en-US</dc:language>
  <cp:lastModifiedBy>Janice Stearns</cp:lastModifiedBy>
  <dcterms:modified xsi:type="dcterms:W3CDTF">2009-03-11T17:02:34Z</dcterms:modified>
  <cp:revision>14</cp:revision>
  <dc:subject/>
  <dc:title>Slide 1</dc:title>
</cp:coreProperties>
</file>